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4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C63-CBC8-40C6-8FBA-29AA8D04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C17-5E30-47F7-93AC-3B86799A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33C-A1F3-45CD-85BD-5E64603E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CE5-617B-47B6-8F29-33CE7670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D8D8-381D-45DD-92E7-10CB668B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06E4-46A1-4542-B3CE-E48A2401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BD14-E0B4-4EF5-B90A-3EE18E14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1E1C-BC90-412A-A7AE-A56FB0AB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09C7-3CDC-406E-A577-CD2C0EC9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5E6A-F8D8-4D6A-B1BB-460CA768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341C-6830-45DB-955B-27F3E14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C51-6720-45C9-9BA6-2CF215E1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6BEA-AE26-4491-9986-D133F863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5ACF-5297-495A-858F-FB7F52F7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49E2-AE62-4D30-BD2B-B8FFDDA6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E74B-204F-473D-9150-D6F7CD02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1522-7420-4F11-8212-D5BBBB71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5D32F-3F2D-41FD-868A-42828911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EC48B-31DC-458D-8DC9-9B3B283A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19F2-8B98-4319-8D38-B1AB0509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26AE-2ED4-482C-A56F-39893500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C6A36-96DD-4FFD-B2D6-121E526C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038-1E64-4840-9142-BBA02877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96880-4BF2-47F9-A333-125CA6F6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80A5-13F0-4C84-A301-97A3A7D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F64E-02BE-45E1-A197-F50F428F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0BFF0-7A64-479D-B43D-14AC0030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A65D-C956-4C44-9027-C9E0E83F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7E6BF-AC6B-45B0-8C6B-248054CA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E0E3-A2C9-4BD9-830E-D2C35850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313-DC4D-4925-8686-EF7CB4FF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9D0-0632-44D2-8604-A01CD2B7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1F7-A7F2-4F67-94BE-ED11F519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B67-830B-4DB7-A91A-2A4E5A9F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E24-7FA2-4EAE-8FD2-1777B9B8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D58-4739-4BD0-A4EA-47A2A94C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53E5-157F-453D-BD3B-DCF5EB4C106E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T:\Contacto\Health\DGS\Concurso Público\Propostas Criativas\U\Template ppt\bases\7542_DGS_powerpoint_cap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856C-E96A-4000-B3DF-EA5698037FF0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T:\Contacto\Health\DGS\Concurso Público\Propostas Criativas\U\Template ppt\bases\7542_DGS_powerpoint_02-07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D264-EAA8-4B07-B6D0-E78C22FD0B5E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T:\Contacto\Health\DGS\Concurso Público\Propostas Criativas\U\Template ppt\bases\7542_DGS_powerpoint_02-06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aixaDeTexto 3"/>
          <p:cNvSpPr/>
          <p:nvPr/>
        </p:nvSpPr>
        <p:spPr>
          <a:xfrm>
            <a:off x="1643040" y="1846440"/>
            <a:ext cx="682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7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3c3c3c"/>
                </a:solidFill>
                <a:latin typeface="Open Sans"/>
              </a:rPr>
              <a:t>PRECAUÇÕES BÁSICAS de CONTROLO DE INFEÇÃ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84807"/>
                </a:solidFill>
                <a:latin typeface="Narkisim"/>
                <a:ea typeface="Narkisim"/>
              </a:rPr>
              <a:t>Avaliação do Risco Individual do Doente para a Infe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ixaDeTexto 4"/>
          <p:cNvSpPr/>
          <p:nvPr/>
        </p:nvSpPr>
        <p:spPr>
          <a:xfrm>
            <a:off x="4157640" y="4589640"/>
            <a:ext cx="4630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3c3c3c"/>
                </a:solidFill>
                <a:latin typeface="Open Sans"/>
              </a:rPr>
              <a:t>PPCIRA: CURSO PBCI/PBVT - </a:t>
            </a:r>
            <a:r>
              <a:rPr b="1" lang="pt-PT" sz="1400" spc="-1" strike="noStrike">
                <a:solidFill>
                  <a:srgbClr val="3c3c3c"/>
                </a:solidFill>
                <a:latin typeface="Open Sans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 avaliação do risco de infeção: 2 vertent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55680" y="2169720"/>
            <a:ext cx="74311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Como hospedeiro suscetível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Fatores de risco intrínseco e extrínseco que o tornam mais vulnerável/suscetível à infeção: doença crónica; múltiplos procedimentos e dispositivos invasivos; internamentos recentes e sucessivos; idade avançada &gt; 65 anos ..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Como fonte ou reservatório de infeção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ituação clínica de colonização ou infeção (ativa ou presumida), representando risco de transmissão cruzada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Por vezes, as 2 situações!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2171520"/>
            <a:ext cx="8763120" cy="4686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 avaliação inicial do risco para a infeção,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é o 1.º passo para o planeamento, implementação e avaliação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das medidas de PCI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eve ser feita </a:t>
            </a: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antes da interação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om o doente ou com o seu ambiente envolvente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ermite aos PS dirigir as intervenções necessárias para prevenir a  transmissão cruzada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o longo do internamento: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reconhecer os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ocedimentos com &gt; risco para os doentes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a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mudança do padrão clínico/ &gt; da suscetibilidade à infeção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e os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sinais/sintomas de infeção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que possam ser determinantes no planeamento dos cuidados seguros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valiação do risco individua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 avaliação do risco de IH: 2 vertent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55320" y="2170080"/>
            <a:ext cx="7659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ara estratificar os níveis de risco do doente para a infeção: 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Modelo de risco diferencial: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 algn="just">
              <a:spcBef>
                <a:spcPts val="499"/>
              </a:spcBef>
              <a:buClr>
                <a:srgbClr val="000000"/>
              </a:buClr>
              <a:buFont typeface="Open San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ituação clinica do doente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 algn="just">
              <a:spcBef>
                <a:spcPts val="499"/>
              </a:spcBef>
              <a:buClr>
                <a:srgbClr val="000000"/>
              </a:buClr>
              <a:buFont typeface="Open San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Tipo de procedimentos a efetuar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e forma qualitativa podemos apurar um de 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três níveis de risco: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édi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levad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Risco diferencial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11"/>
          <p:cNvGraphicFramePr/>
          <p:nvPr/>
        </p:nvGraphicFramePr>
        <p:xfrm>
          <a:off x="803160" y="860400"/>
          <a:ext cx="9323640" cy="574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160" y="860400"/>
                    <a:ext cx="932364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IORIZAÇÃO DAS MEDID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04880" y="819000"/>
            <a:ext cx="7620120" cy="2913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685800" y="3467160"/>
            <a:ext cx="7658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PLANO DE INTERVENÇÃO NOS DOENTES COM INFECÇÃ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2171520"/>
            <a:ext cx="8305920" cy="4686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 todo o doente em que é identificada uma infeção/colonização, confirmada ou presumida, deve ser elaborado um 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plano de cuidados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, com as intervenções apropriadas, principalmente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nas situações em que é possível a transmissão secundária do microrganismo a outros doentes, profissionais, visitantes e sua disseminação no ambiente. 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" name="Conexão recta 4"/>
          <p:cNvSpPr/>
          <p:nvPr/>
        </p:nvSpPr>
        <p:spPr>
          <a:xfrm>
            <a:off x="1295280" y="3848040"/>
            <a:ext cx="626760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exão recta 6"/>
          <p:cNvSpPr/>
          <p:nvPr/>
        </p:nvSpPr>
        <p:spPr>
          <a:xfrm>
            <a:off x="1486080" y="3333600"/>
            <a:ext cx="7257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QUESTÕES PARA OPLANO DE INTERVENÇÃO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8200" y="2064960"/>
            <a:ext cx="8286840" cy="470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loca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 do doente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tipo de isolamento, se neces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io)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 isolamento de contacto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suficiente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não, o doente necessita de isolamento de conten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 ou de prot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, ou dos  tipos de isolamento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 doente necessita de quarto individual com casa de banho?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cond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ões para implementar esta medida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neces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io quarto com ventil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 controlada (pressão negativa - se patologia ou microrganismo for pas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el de transmissão por via 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a ou got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ulas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cond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ões para implementar esta medida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ais do que um doente com a mesma patologia infeciosa ou o mesmo microrganismo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rt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e não h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quarto individual: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solar os doentes em Coorte 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Outras questões, d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idas ou necessidade de orient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ões espec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icas (ex: suspeita de surto de inf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):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tactar o GCL-PPCIRA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" name="Rectângulo 3"/>
          <p:cNvSpPr/>
          <p:nvPr/>
        </p:nvSpPr>
        <p:spPr>
          <a:xfrm>
            <a:off x="838080" y="876240"/>
            <a:ext cx="830592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plicação das PBCI a todos os doen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55440" y="0"/>
            <a:ext cx="9033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5676840" y="657360"/>
          <a:ext cx="3301920" cy="5730840"/>
        </p:xfrm>
        <a:graphic>
          <a:graphicData uri="http://schemas.openxmlformats.org/drawingml/2006/table">
            <a:tbl>
              <a:tblPr/>
              <a:tblGrid>
                <a:gridCol w="906480"/>
                <a:gridCol w="2395440"/>
              </a:tblGrid>
              <a:tr h="2979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lementar o plano de ação para reduzir os risco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abelecer prioridad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star os fatores de risco encontrados e as ações propost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dentificar o (s) responsável (s) pelo plano e sua implement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star a data de avaliação do risco no formulári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finir a periodicidade de reavaliação do risc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ª reavaliação - às 72 horas, após a 1.ª ou a inici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manal, e sempre que haja mudança do padrão de risco do do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última avaliação é feita à saída do doente e deve constar na carta de alta/transferên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ângulo 6"/>
          <p:cNvSpPr/>
          <p:nvPr/>
        </p:nvSpPr>
        <p:spPr>
          <a:xfrm>
            <a:off x="5540400" y="0"/>
            <a:ext cx="3603600" cy="68256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Open Sans"/>
              </a:rPr>
              <a:t>RESUMO: ETAPAS DA AVALIAÇÃO DE R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289160" y="0"/>
            <a:ext cx="656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162080" y="0"/>
            <a:ext cx="68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1200240" y="341280"/>
            <a:ext cx="6032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  <a:ea typeface="Arial"/>
              </a:rPr>
              <a:t>Implementação das Precauções Bás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  <a:ea typeface="Arial"/>
              </a:rPr>
              <a:t>de Controlo de Infe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1333440" y="1403280"/>
            <a:ext cx="755640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Open Sans"/>
                <a:ea typeface="Arial"/>
              </a:rPr>
              <a:t>Objetivo: </a:t>
            </a:r>
            <a:r>
              <a:rPr b="1" lang="en-US" sz="2000" spc="-1" strike="noStrike">
                <a:solidFill>
                  <a:srgbClr val="002060"/>
                </a:solidFill>
                <a:latin typeface="Open Sans"/>
                <a:ea typeface="Arial"/>
              </a:rPr>
              <a:t>Abordar, no âmbito das Precauções básicas de controlo de infeção (PBCI), a Avaliação do Risco Individual do Doente para a Infe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Open Sans"/>
                <a:ea typeface="Arial"/>
              </a:rPr>
              <a:t>Estrutura da Apresent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en San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Revisão breve dos concei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Nor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Metodologia de Avaliação do Risco Individual do Doente para a Infe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 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Conclus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Open Sans"/>
                <a:ea typeface="Arial"/>
              </a:rPr>
              <a:t>Duração: </a:t>
            </a:r>
            <a:r>
              <a:rPr b="0" lang="en-US" sz="1600" spc="-1" strike="noStrike">
                <a:solidFill>
                  <a:srgbClr val="000000"/>
                </a:solidFill>
                <a:latin typeface="Open Sans"/>
                <a:ea typeface="Arial"/>
              </a:rPr>
              <a:t>15 minutos de apresentação / 5 minutos de discussão f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2B0F-9E6D-436D-A66C-BC962A7F55F2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m 5" descr="Logo_Departamento da Qualidade na Saúde.jpg"/>
          <p:cNvPicPr/>
          <p:nvPr/>
        </p:nvPicPr>
        <p:blipFill>
          <a:blip r:embed="rId1"/>
          <a:stretch/>
        </p:blipFill>
        <p:spPr>
          <a:xfrm>
            <a:off x="7170840" y="0"/>
            <a:ext cx="1969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pós avaliação do risc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38400"/>
            <a:ext cx="8362800" cy="5619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Medidas de controlo ambiental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– aumento de frequência de limpeza e desinfeção (se necessário) e da desinfeção complementar (ex: 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Clostridium difficile, MRSA, Acinetobacter…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Máscara de proteção respiratória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(EN 149:2001 FFP2) – para proteção dos profissionais - se o agente suspeito/ confirmado for passível de transmissão por via aérea e por gotículas (ex: tuberculose pulmonar ativa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Luvas e bata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para proteção total do profissional no caso de doente com escabiose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Restrição de profissionais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– evitar a exposição dos profissionais se não estão imunizados (ex: varicela, rubéola, sarampo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Após avaliação do risco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38400"/>
            <a:ext cx="8362800" cy="5619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Restrição de visitas: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m situações específicas, pode ser necessário &lt; o n.º de visitas (ex: doente com microrganismo alerta/problema ou em caso de surto de infeção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Planeamento do transporte: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garantir as medidas durante o transporte, sempre que o doente se deslocar para fora do serviço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Imunização/ profilaxia após exposição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ão protegida dos indivíduos suscetíveis (ex: meningite meningocócica, varicela, sarampo e varíola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Imunização dos profissionais de saúde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cumprir o plano vacinal de acordo com as indicações do SHSST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Após avaliação do risco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990720"/>
            <a:ext cx="8362800" cy="5867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Verificar se é uma infeção/doença de declaração obrigatória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: Enviar a Declaração Obrigatória de Doenças Transmissíveis da DGS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Reportar os casos de infeção/colonização ao GCL-PPCIR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: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oente admitido já com infeção ativa ou colonização (incluindo as transmissíveis)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oente com infeção adquirida no hospital ou suspeita de colonização: reportar ao GCL-PPCIRA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stes dados são também relevantes para o plano de VE de cada Hospital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Outras questões ou dúvidas que possam surgir: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contactar o GCL-PPCIRA do Hospital/outra US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ângulo 1"/>
          <p:cNvSpPr/>
          <p:nvPr/>
        </p:nvSpPr>
        <p:spPr>
          <a:xfrm>
            <a:off x="1095480" y="371520"/>
            <a:ext cx="703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Etapas da Avaliação do Risco de Infe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28880" y="820800"/>
          <a:ext cx="7981920" cy="5732280"/>
        </p:xfrm>
        <a:graphic>
          <a:graphicData uri="http://schemas.openxmlformats.org/drawingml/2006/table">
            <a:tbl>
              <a:tblPr/>
              <a:tblGrid>
                <a:gridCol w="1047600"/>
                <a:gridCol w="6934320"/>
              </a:tblGrid>
              <a:tr h="24588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Etap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Desc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46376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r o risco de infeção na admis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mpletar até às 24 horas de internament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o ser admitido, o doente tem já uma infeção ativa ou suspeita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 a probabilidade do doente adquirir infeçã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m está exposto aos fatores de risco – o próprio doente, outros doentes, os profissionais de saúde, os visitant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 é o agente infecioso em causa (caso haja já conhecimento ou suspeita do estado infecioso do doente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8288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ar a exposição ao fator de risco de infeçã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doente tem fatores de risco de infeçã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ais e sintomas de infe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ça de sangue e matéria orgânic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imentos invasivos a realiz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doente tem fatores de risco adicionais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mento em áreas de alto risco (UCI, Queimados, Hematolog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unossupres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últiplos dispositivos inv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cção ativa ou presum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19384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r as medidas a implementa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lamento em quarto individual? Se sim, é de contenção ou de proteçã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lamento de Coorte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rto com ventilação com pressão negativa ou positiva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car o doente na unidade de internamento, com base na avaliação do risco e os recursos disponíve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auções Básicas – em todos os procedimentos e em todos os do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auções dependentes das vias de transmissão - avaliar quais as precauções adicionais a implementar, de acordo com o microrganismo/patologia em causa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tícul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é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ângulo 1"/>
          <p:cNvSpPr/>
          <p:nvPr/>
        </p:nvSpPr>
        <p:spPr>
          <a:xfrm>
            <a:off x="1095480" y="371520"/>
            <a:ext cx="587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Etapas da Avaliação do Risco de Infe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803240" y="1847880"/>
          <a:ext cx="6874200" cy="3343320"/>
        </p:xfrm>
        <a:graphic>
          <a:graphicData uri="http://schemas.openxmlformats.org/drawingml/2006/table">
            <a:tbl>
              <a:tblPr/>
              <a:tblGrid>
                <a:gridCol w="1887840"/>
                <a:gridCol w="4986360"/>
              </a:tblGrid>
              <a:tr h="173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ementar o um plano de ação para reduzir os riscos e estabelecer prioridades nos procedimentos com base na sua importânci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ar os fatores de risco encontrados e as ações proposta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r o (s) responsável (s) pelo plano e sua implement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ar a data de implementação no processo clínic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r a periodicidade de reavaliação do risc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eira reavaliação às 72/96 ho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pre que haja mudança do padrão de risco do do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lo menos uma vez por sema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última avaliação deve constar na carta de alta/transferência do doente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56680"/>
            <a:ext cx="8229600" cy="5743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o avaliar o risco dos doentes para a infeção, os profissionais devem incluir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)Presença de fatores de risco extrínseco e intrínseco dos doentes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avaliação da vulnerabilidade dos doentes): Algália, Cateter intravascular central; Cateter vascular periférico; Cirurgia, Drenagens; Ventilação mecânica; Procedimentos invasivos não cirúrgicos (técnicas endoscópicas ou técnicas de substituição renal); Outros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b)Se há infeção ativa ou suspeita, ou colonização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(prevenção da transmissão cruzada na Unidade + avaliação da vulnerabilidade do doente e dos que estão próximos deste + proteção dos profissionais)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Localização da infeção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Urinária; Respiratória, Corrente sanguínea; Local cirúrgico; Intra-abdominal; Gastrintestinal; Meníngea; Pele e tecidos moles; Osteoarticular; Outras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9520"/>
            <a:ext cx="82296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valiação do risco de exposição dos profissionais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240"/>
            <a:ext cx="8524800" cy="5295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valiação individual que cada profissional faz antes da interação com o doente e, de acordo com a situação clínica do mesmo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Deve prever o risco de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ontaminação da pele ou fardamento por microrganismos do ambiente do doente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sangue, outros fluidos orgânicos, secreções, excreções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pele não intacta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mucosas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superfícies ou equipamentos contaminados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619200" y="209520"/>
            <a:ext cx="6429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upos de Medidas de Prevenção 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o da transmi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uzada da Infe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76440" y="1666800"/>
            <a:ext cx="8200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quear a passagem de colonização a infe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mar medidas relativas à exposição desnecessária dos doentes a dispositivos inv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mover o uso racional de antimicrobi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ger/modificar o risco do hospedei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mar medidas para identificação e proteção dos doentes mais suscetíve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gurar o diagnóstico e tratamento precoces da infe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crever antibióticos de forma racional/asser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ângulo 2"/>
          <p:cNvSpPr/>
          <p:nvPr/>
        </p:nvSpPr>
        <p:spPr>
          <a:xfrm>
            <a:off x="771480" y="1352520"/>
            <a:ext cx="80964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dotar a avaliação de risco de infeção organizacional 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dentificar as práticas de CI inseguras, desnecessárias e inefica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r mais PROACTIVO e menos reativ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Gastar algum tempo do dia  ou da semana para PENSAR em como se poderá encontrar uma direção estratégica para a Orga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nalisar os dados de vigilância epidemiológica da infeção da Unidade de Saúde, e os dados obtidos através das auditorias e eventos adve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nalisar a informação, identificar os PROBLEMAS-CHAVE e os al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iorizar as ações usando o princípio de Pareto (80/20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laborar um plano de ação e apontar soluções, com base nas necessidades locais 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mplementar soluções simples e eficazes, que sejam exequíve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ângulo 3"/>
          <p:cNvSpPr/>
          <p:nvPr/>
        </p:nvSpPr>
        <p:spPr>
          <a:xfrm>
            <a:off x="942840" y="533520"/>
            <a:ext cx="57819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valiação do risco de exposição dos profissionais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677960"/>
            <a:ext cx="8124840" cy="49896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59000"/>
          </a:bodyPr>
          <a:p>
            <a:pPr marL="202320" indent="-20232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Nas situações de possível risco de transmissão cruzada,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é recomendado em cada avaliação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Determinar o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tipo de isolamento necessário ao doent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, com base na avaliação do risco e na sua exequibilidade, e de acordo com as infraestruturas e recursos existentes: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438120" indent="-168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Isolamento </a:t>
            </a: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estrito ou individual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quarto individual com casa de banho);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438120" indent="-168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Coorte;  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438120" indent="-168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De contacto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Definir as medidas de intervenção necessárias para prevenir a transmissão durante a interação planeada - inclui a seleção e uso adequados dos EPI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 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bordagem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1600" y="1800360"/>
            <a:ext cx="74390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Perigo (Hazard)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definido como algo com potencial de causar dano: ex: microrganismos, desinfetantes e antisséticos…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Risco (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Risk)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definido como a probabilidade de um dano, a partir do perigo…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Infeção adquirida pelos profissionais de saúde decorrente de exposição a sangue/outros fluidos orgânicos, material cortoperfurante, desinfetantes em ambiente não ou mal ventilado…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–  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Risco de infeção cruzada para os doentes, visitantes e profissionais de saúde, relacionados com falhas  no isolamento do doente ou no cumprimentos das boas práticas nos procedimentos clínicos…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– 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Reutilização de materiais e equipamentos clínicos e não clínicos entre doentes sem serem submetidos a um processo adequado de  descontaminação…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Fonte: Hubbard D. </a:t>
            </a:r>
            <a:r>
              <a:rPr b="0" i="1" lang="pt-PT" sz="800" spc="-1" strike="noStrike">
                <a:solidFill>
                  <a:srgbClr val="000000"/>
                </a:solidFill>
                <a:latin typeface="Open Sans"/>
              </a:rPr>
              <a:t>The Failure of Risk Management: Why It's Broken and How to Fix It. </a:t>
            </a: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John Wiley &amp; Sons,2009.</a:t>
            </a:r>
            <a:endParaRPr b="0" lang="en-US" sz="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agem 1" descr=""/>
          <p:cNvPicPr/>
          <p:nvPr/>
        </p:nvPicPr>
        <p:blipFill>
          <a:blip r:embed="rId1"/>
          <a:stretch/>
        </p:blipFill>
        <p:spPr>
          <a:xfrm>
            <a:off x="2023920" y="195120"/>
            <a:ext cx="5770800" cy="648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7" name="Rectângulo 40"/>
          <p:cNvSpPr/>
          <p:nvPr/>
        </p:nvSpPr>
        <p:spPr>
          <a:xfrm>
            <a:off x="1552680" y="0"/>
            <a:ext cx="6924600" cy="561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lgoritmo de Avaliação de Risco para o Profiss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2111400" y="492120"/>
            <a:ext cx="52912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8" descr=""/>
          <p:cNvPicPr/>
          <p:nvPr/>
        </p:nvPicPr>
        <p:blipFill>
          <a:blip r:embed="rId1"/>
          <a:stretch/>
        </p:blipFill>
        <p:spPr>
          <a:xfrm>
            <a:off x="1066680" y="39600"/>
            <a:ext cx="719316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Diagrama 1" descr=""/>
          <p:cNvPicPr/>
          <p:nvPr/>
        </p:nvPicPr>
        <p:blipFill>
          <a:blip r:embed="rId1"/>
          <a:srcRect l="0" t="0" r="0" b="-2312"/>
          <a:stretch/>
        </p:blipFill>
        <p:spPr>
          <a:xfrm>
            <a:off x="1971720" y="0"/>
            <a:ext cx="550224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ângulo 2"/>
          <p:cNvSpPr/>
          <p:nvPr/>
        </p:nvSpPr>
        <p:spPr>
          <a:xfrm>
            <a:off x="3495600" y="6257880"/>
            <a:ext cx="120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id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ângulo 3"/>
          <p:cNvSpPr/>
          <p:nvPr/>
        </p:nvSpPr>
        <p:spPr>
          <a:xfrm flipH="1">
            <a:off x="4838040" y="6257880"/>
            <a:ext cx="118116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id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ângulo 4"/>
          <p:cNvSpPr/>
          <p:nvPr/>
        </p:nvSpPr>
        <p:spPr>
          <a:xfrm>
            <a:off x="6162840" y="6276960"/>
            <a:ext cx="1190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id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eta para baixo 5"/>
          <p:cNvSpPr/>
          <p:nvPr/>
        </p:nvSpPr>
        <p:spPr>
          <a:xfrm>
            <a:off x="2533680" y="1724040"/>
            <a:ext cx="162000" cy="3333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5080" y="2130120"/>
            <a:ext cx="7053120" cy="1469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Slides complementare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94440" cy="1752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17375e"/>
                </a:solidFill>
                <a:latin typeface="Open Sans"/>
              </a:rPr>
              <a:t>A serem usados pelos GCL-PPCIRA que o queiram!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bordagem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314360" y="1961640"/>
            <a:ext cx="74772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Fator de Risco =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obabilidade (frequência) </a:t>
            </a: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x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 impacto (severidade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s dados de incidência da infeção resultantes da VE nacional, regional e local dá uma ideia da probabilidade ou frequência e os relatórios de incidentes/eventos advers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s auditorias às práticas de CI dá-nos informação da frequência das falhas relativamente aos procedimentos clínicos, de acordo com as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guidelines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valiação do risco: dá-nos a informação do impacto e severidade da doença nos indivíduos (doentes, visitantes, profissionais de saúde…)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Programa de controlo de infeção no Hospital – Ex. de um método de Avaliação do Risco de Infeçã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229600" cy="4575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índrome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Microrgan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everidade da infe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1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População em r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1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Vulnerabil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O PCI está preparado para gerir o proble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 </a:t>
                      </a: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se melhor preparado = score + baix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1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core do R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A severidade é determinada multiplicando os scor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R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C. diffic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nflu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A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ESBL/outros MM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nfeção uriná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V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22" name="Rectângulo 4"/>
          <p:cNvSpPr/>
          <p:nvPr/>
        </p:nvSpPr>
        <p:spPr>
          <a:xfrm>
            <a:off x="581040" y="6134040"/>
            <a:ext cx="8191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Fonte: webeer SG et al: “</a:t>
            </a:r>
            <a:r>
              <a:rPr b="1" i="1" lang="pt-PT" sz="1000" spc="-1" strike="noStrike">
                <a:solidFill>
                  <a:srgbClr val="000000"/>
                </a:solidFill>
                <a:latin typeface="Open Sans"/>
              </a:rPr>
              <a:t>Healthcare associated infections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”. Oxford university Press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Matriz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2270160"/>
          <a:ext cx="7848720" cy="3108240"/>
        </p:xfrm>
        <a:graphic>
          <a:graphicData uri="http://schemas.openxmlformats.org/drawingml/2006/table">
            <a:tbl>
              <a:tblPr/>
              <a:tblGrid>
                <a:gridCol w="1408320"/>
                <a:gridCol w="1293840"/>
                <a:gridCol w="1222200"/>
                <a:gridCol w="1308240"/>
                <a:gridCol w="1307880"/>
                <a:gridCol w="13082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3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robabil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3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Frequênci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3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r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ino</a:t>
                      </a: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/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aj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Quase  c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rov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ossí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 1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Não prov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.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a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  <p:sp>
        <p:nvSpPr>
          <p:cNvPr id="225" name="Chamada com seta para baixo 4"/>
          <p:cNvSpPr/>
          <p:nvPr/>
        </p:nvSpPr>
        <p:spPr>
          <a:xfrm rot="2860800">
            <a:off x="7202160" y="1304640"/>
            <a:ext cx="1847880" cy="1069920"/>
          </a:xfrm>
          <a:prstGeom prst="downArrowCallout">
            <a:avLst>
              <a:gd name="adj1" fmla="val 24997"/>
              <a:gd name="adj2" fmla="val 25003"/>
              <a:gd name="adj3" fmla="val 25000"/>
              <a:gd name="adj4" fmla="val 64977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Alta Priorida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Open Sans"/>
              </a:rPr>
              <a:t>Identificar os recursos onde o risco é &gt; elev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33360" y="5479920"/>
          <a:ext cx="7867800" cy="1096920"/>
        </p:xfrm>
        <a:graphic>
          <a:graphicData uri="http://schemas.openxmlformats.org/drawingml/2006/table">
            <a:tbl>
              <a:tblPr/>
              <a:tblGrid>
                <a:gridCol w="3933720"/>
                <a:gridCol w="3934080"/>
              </a:tblGrid>
              <a:tr h="54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E: risco severo/gr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medidas imedia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: risco alto/ele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priorização das med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: risco mode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medidas plane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: risco baix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PB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ângulo 17"/>
          <p:cNvSpPr/>
          <p:nvPr/>
        </p:nvSpPr>
        <p:spPr>
          <a:xfrm>
            <a:off x="0" y="876240"/>
            <a:ext cx="9144000" cy="59817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iorizar os risc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24040" y="2009880"/>
          <a:ext cx="5952960" cy="3520800"/>
        </p:xfrm>
        <a:graphic>
          <a:graphicData uri="http://schemas.openxmlformats.org/drawingml/2006/table">
            <a:tbl>
              <a:tblPr/>
              <a:tblGrid>
                <a:gridCol w="2976480"/>
                <a:gridCol w="297648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feção por reutilização de seringas/agulh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19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feções associadas à roupa hospital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feção urinár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230" name="Rectângulo 5"/>
          <p:cNvSpPr/>
          <p:nvPr/>
        </p:nvSpPr>
        <p:spPr>
          <a:xfrm>
            <a:off x="3362400" y="5838840"/>
            <a:ext cx="29052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FREQUÊ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ângulo 6"/>
          <p:cNvSpPr/>
          <p:nvPr/>
        </p:nvSpPr>
        <p:spPr>
          <a:xfrm>
            <a:off x="885960" y="5572080"/>
            <a:ext cx="82872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ângulo 7"/>
          <p:cNvSpPr/>
          <p:nvPr/>
        </p:nvSpPr>
        <p:spPr>
          <a:xfrm>
            <a:off x="7772400" y="5438880"/>
            <a:ext cx="723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ângulo 8"/>
          <p:cNvSpPr/>
          <p:nvPr/>
        </p:nvSpPr>
        <p:spPr>
          <a:xfrm>
            <a:off x="971640" y="1657440"/>
            <a:ext cx="723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ângulo 9"/>
          <p:cNvSpPr/>
          <p:nvPr/>
        </p:nvSpPr>
        <p:spPr>
          <a:xfrm>
            <a:off x="685800" y="2095560"/>
            <a:ext cx="390600" cy="33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Conexão recta unidireccional 11"/>
          <p:cNvCxnSpPr/>
          <p:nvPr/>
        </p:nvCxnSpPr>
        <p:spPr>
          <a:xfrm flipV="1">
            <a:off x="1238040" y="2009160"/>
            <a:ext cx="38520" cy="3400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" name="Conexão recta unidireccional 16"/>
          <p:cNvCxnSpPr/>
          <p:nvPr/>
        </p:nvCxnSpPr>
        <p:spPr>
          <a:xfrm flipV="1">
            <a:off x="1809360" y="5695200"/>
            <a:ext cx="59158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57120" y="1904760"/>
            <a:ext cx="74293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valiação do Risco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 (Risk assessment)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um processo sistémico de avaliação e integração do juízo clínico/profissional, sobre as condições adversas e/ou eventos adversos, relevantes para a infeção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Gestão do Risco (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Risk management)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a identificação, avaliação e priorização dos riscos associados aos cuidados de saúde, seguido de boa gestão coordenada e económica dos recursos, para minimizar, monitorizar e controlar a probabilidade e/ou impacto dos eventos adversos com implicações na infeção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Fonte: Hubbard D. </a:t>
            </a:r>
            <a:r>
              <a:rPr b="0" i="1" lang="pt-PT" sz="1100" spc="-1" strike="noStrike">
                <a:solidFill>
                  <a:srgbClr val="000000"/>
                </a:solidFill>
                <a:latin typeface="Open Sans"/>
              </a:rPr>
              <a:t>The Failure of Risk Management: Why It's Broken and How to Fix It. </a:t>
            </a: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John Wiley &amp; Sons,2009.</a:t>
            </a: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ângulo 17"/>
          <p:cNvSpPr/>
          <p:nvPr/>
        </p:nvSpPr>
        <p:spPr>
          <a:xfrm>
            <a:off x="0" y="876240"/>
            <a:ext cx="9144000" cy="59817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iorizar os Risc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9" name="Rectângulo 9"/>
          <p:cNvSpPr/>
          <p:nvPr/>
        </p:nvSpPr>
        <p:spPr>
          <a:xfrm>
            <a:off x="923760" y="1104840"/>
            <a:ext cx="343080" cy="4971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da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Conexão recta unidireccional 11"/>
          <p:cNvCxnSpPr/>
          <p:nvPr/>
        </p:nvCxnSpPr>
        <p:spPr>
          <a:xfrm flipV="1">
            <a:off x="1361880" y="1266120"/>
            <a:ext cx="29160" cy="4677480"/>
          </a:xfrm>
          <a:prstGeom prst="straightConnector1">
            <a:avLst/>
          </a:prstGeom>
          <a:ln w="2844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241" name="Fluxograma: extrair 13"/>
          <p:cNvSpPr/>
          <p:nvPr/>
        </p:nvSpPr>
        <p:spPr>
          <a:xfrm>
            <a:off x="1352520" y="1104840"/>
            <a:ext cx="5638680" cy="4934160"/>
          </a:xfrm>
          <a:prstGeom prst="flowChartExtra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ângulo arredondado 14"/>
          <p:cNvSpPr/>
          <p:nvPr/>
        </p:nvSpPr>
        <p:spPr>
          <a:xfrm>
            <a:off x="6381720" y="2133720"/>
            <a:ext cx="2400480" cy="97128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dade Alta para implementação </a:t>
            </a:r>
            <a:r>
              <a:rPr b="1" lang="pt-PT" sz="1200" spc="-1" strike="noStrike">
                <a:solidFill>
                  <a:srgbClr val="000000"/>
                </a:solidFill>
                <a:latin typeface="Open Sans"/>
              </a:rPr>
              <a:t>(medidas custo-efetiv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ângulo arredondado 18"/>
          <p:cNvSpPr/>
          <p:nvPr/>
        </p:nvSpPr>
        <p:spPr>
          <a:xfrm>
            <a:off x="6524640" y="3467160"/>
            <a:ext cx="2324160" cy="971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dade Intermédi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(usar o bom sen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ângulo arredondado 19"/>
          <p:cNvSpPr/>
          <p:nvPr/>
        </p:nvSpPr>
        <p:spPr>
          <a:xfrm>
            <a:off x="6943680" y="4896000"/>
            <a:ext cx="2028960" cy="74268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dade Baix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(medidas </a:t>
            </a:r>
            <a:r>
              <a:rPr b="1" lang="pt-PT" sz="1200" spc="-1" strike="noStrike">
                <a:solidFill>
                  <a:srgbClr val="000000"/>
                </a:solidFill>
                <a:latin typeface="Open Sans"/>
              </a:rPr>
              <a:t>não </a:t>
            </a: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custo-efetiv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onexão recta 21"/>
          <p:cNvSpPr/>
          <p:nvPr/>
        </p:nvSpPr>
        <p:spPr>
          <a:xfrm>
            <a:off x="2924280" y="340992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nexão recta 25"/>
          <p:cNvSpPr/>
          <p:nvPr/>
        </p:nvSpPr>
        <p:spPr>
          <a:xfrm>
            <a:off x="2095560" y="4743360"/>
            <a:ext cx="414324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ângulo 31"/>
          <p:cNvSpPr/>
          <p:nvPr/>
        </p:nvSpPr>
        <p:spPr>
          <a:xfrm>
            <a:off x="3295800" y="2705040"/>
            <a:ext cx="1733400" cy="5716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Severidade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maj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Frequência: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Custo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baix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ângulo 33"/>
          <p:cNvSpPr/>
          <p:nvPr/>
        </p:nvSpPr>
        <p:spPr>
          <a:xfrm>
            <a:off x="2800440" y="3638520"/>
            <a:ext cx="2590560" cy="600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Severidade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mode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Frequência: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intermé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Custo: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ângulo 34"/>
          <p:cNvSpPr/>
          <p:nvPr/>
        </p:nvSpPr>
        <p:spPr>
          <a:xfrm>
            <a:off x="2200320" y="4933800"/>
            <a:ext cx="3828960" cy="600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Severidade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Frequência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baix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Custo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Conexão recta unidireccional 36"/>
          <p:cNvCxnSpPr/>
          <p:nvPr/>
        </p:nvCxnSpPr>
        <p:spPr>
          <a:xfrm flipV="1">
            <a:off x="5133960" y="2818800"/>
            <a:ext cx="1239120" cy="1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1" name="Conexão recta unidireccional 38"/>
          <p:cNvCxnSpPr/>
          <p:nvPr/>
        </p:nvCxnSpPr>
        <p:spPr>
          <a:xfrm flipV="1">
            <a:off x="5791320" y="3933000"/>
            <a:ext cx="705240" cy="10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2" name="Conexão recta unidireccional 40"/>
          <p:cNvCxnSpPr>
            <a:endCxn id="244" idx="1"/>
          </p:cNvCxnSpPr>
          <p:nvPr/>
        </p:nvCxnSpPr>
        <p:spPr>
          <a:xfrm>
            <a:off x="6552720" y="5266800"/>
            <a:ext cx="391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Controlar o Risco: Pensar nas soluções possíveis!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4" name="Rectângulo 20"/>
          <p:cNvSpPr/>
          <p:nvPr/>
        </p:nvSpPr>
        <p:spPr>
          <a:xfrm>
            <a:off x="1409760" y="1693800"/>
            <a:ext cx="7381800" cy="6426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EVITAR o RIS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. Não reutilizar agulhas/serin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ta para baixo 22"/>
          <p:cNvSpPr/>
          <p:nvPr/>
        </p:nvSpPr>
        <p:spPr>
          <a:xfrm>
            <a:off x="4657680" y="2333520"/>
            <a:ext cx="228600" cy="428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ângulo 23"/>
          <p:cNvSpPr/>
          <p:nvPr/>
        </p:nvSpPr>
        <p:spPr>
          <a:xfrm>
            <a:off x="1476360" y="2760840"/>
            <a:ext cx="7296120" cy="916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MINIMIZAR o RIS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: Reduzir o risco apostando na formação e treino nas PBCI e técnica ass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ângulo 24"/>
          <p:cNvSpPr/>
          <p:nvPr/>
        </p:nvSpPr>
        <p:spPr>
          <a:xfrm>
            <a:off x="1457280" y="4160880"/>
            <a:ext cx="7400880" cy="1191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CONTRIBUIR para AUMENTAR o RISCO de INFEÇÃO CRUZ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: Transferir o risco para serviços preparados: apostar na centralização da esterilização e na gestão integrada dos resí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ângulo 26"/>
          <p:cNvSpPr/>
          <p:nvPr/>
        </p:nvSpPr>
        <p:spPr>
          <a:xfrm>
            <a:off x="1476360" y="5446800"/>
            <a:ext cx="7362720" cy="916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ACEITAR o RIS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: Aceitar o risco a um nível não prejudicial -  i.é., com baixo risco, mas com intervenções enérgicas e custo-efica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eta para baixo 27"/>
          <p:cNvSpPr/>
          <p:nvPr/>
        </p:nvSpPr>
        <p:spPr>
          <a:xfrm>
            <a:off x="4714920" y="3714840"/>
            <a:ext cx="218880" cy="4093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eta para baixo 28"/>
          <p:cNvSpPr/>
          <p:nvPr/>
        </p:nvSpPr>
        <p:spPr>
          <a:xfrm>
            <a:off x="4686480" y="5280120"/>
            <a:ext cx="22356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3960" y="133200"/>
            <a:ext cx="8229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Fases da Avaliação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2" name="Rectângulo 7"/>
          <p:cNvSpPr/>
          <p:nvPr/>
        </p:nvSpPr>
        <p:spPr>
          <a:xfrm>
            <a:off x="3048120" y="876240"/>
            <a:ext cx="3743280" cy="1962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  <a:ea typeface="Arial"/>
              </a:rPr>
              <a:t>Identificar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Identificar riscos/peri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Avaliar quem pode ser atingido (doentes, visitas, profissionais, comunid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Quantificar o risco obtendo informação da frequência (probabilidade) e impacto nos indiv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4" name="Rectângulo 11"/>
          <p:cNvSpPr/>
          <p:nvPr/>
        </p:nvSpPr>
        <p:spPr>
          <a:xfrm>
            <a:off x="6381720" y="3181320"/>
            <a:ext cx="2486160" cy="1438200"/>
          </a:xfrm>
          <a:prstGeom prst="rect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2. Analisar os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Medir os potenciais 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Registar os eventos/infe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Desenvolver uma Matriz de Ri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ângulo 12"/>
          <p:cNvSpPr/>
          <p:nvPr/>
        </p:nvSpPr>
        <p:spPr>
          <a:xfrm>
            <a:off x="447840" y="2971800"/>
            <a:ext cx="2199960" cy="19242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4. Monitorizar os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Monitorizar o risco e reaval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Rever o plano para eliminar e/ou reduzir o risco para o míni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ângulo 13"/>
          <p:cNvSpPr/>
          <p:nvPr/>
        </p:nvSpPr>
        <p:spPr>
          <a:xfrm>
            <a:off x="3657600" y="5210280"/>
            <a:ext cx="2943360" cy="14857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3. Implementar medidas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Avaliar e priorizar as medidas, baseadas na severidade, frequência e custo-eficá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hamada com seta para a esquerda 14"/>
          <p:cNvSpPr/>
          <p:nvPr/>
        </p:nvSpPr>
        <p:spPr>
          <a:xfrm>
            <a:off x="2685960" y="2971800"/>
            <a:ext cx="3476880" cy="1914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498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Relatar e dar</a:t>
            </a:r>
            <a:r>
              <a:rPr b="0" i="1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 feedback </a:t>
            </a: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às pessoas alvo na unidade de saú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Monitorizar, para assegurar o cumprimento dos planos de ação, através de auditorias internas e de VE da infe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eta em curva 15"/>
          <p:cNvSpPr/>
          <p:nvPr/>
        </p:nvSpPr>
        <p:spPr>
          <a:xfrm>
            <a:off x="1371600" y="1104840"/>
            <a:ext cx="1676520" cy="1847880"/>
          </a:xfrm>
          <a:custGeom>
            <a:avLst/>
            <a:gdLst/>
            <a:ahLst/>
            <a:rect l="l" t="t" r="r" b="b"/>
            <a:pathLst>
              <a:path w="1676400" h="1847850">
                <a:moveTo>
                  <a:pt x="0" y="1847850"/>
                </a:moveTo>
                <a:lnTo>
                  <a:pt x="0" y="942975"/>
                </a:lnTo>
                <a:cubicBezTo>
                  <a:pt x="0" y="537916"/>
                  <a:pt x="328366" y="209550"/>
                  <a:pt x="733425" y="209550"/>
                </a:cubicBezTo>
                <a:lnTo>
                  <a:pt x="1257300" y="209550"/>
                </a:lnTo>
                <a:lnTo>
                  <a:pt x="1257300" y="0"/>
                </a:lnTo>
                <a:lnTo>
                  <a:pt x="1676400" y="419100"/>
                </a:lnTo>
                <a:lnTo>
                  <a:pt x="1257300" y="838200"/>
                </a:lnTo>
                <a:lnTo>
                  <a:pt x="1257300" y="628650"/>
                </a:lnTo>
                <a:lnTo>
                  <a:pt x="733425" y="628650"/>
                </a:lnTo>
                <a:cubicBezTo>
                  <a:pt x="559828" y="628650"/>
                  <a:pt x="419100" y="769378"/>
                  <a:pt x="419100" y="942975"/>
                </a:cubicBezTo>
                <a:lnTo>
                  <a:pt x="419100" y="1847850"/>
                </a:lnTo>
                <a:lnTo>
                  <a:pt x="0" y="184785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ta em curva 17"/>
          <p:cNvSpPr/>
          <p:nvPr/>
        </p:nvSpPr>
        <p:spPr>
          <a:xfrm rot="5400000">
            <a:off x="6905160" y="1238040"/>
            <a:ext cx="1828800" cy="2019240"/>
          </a:xfrm>
          <a:custGeom>
            <a:avLst/>
            <a:gdLst/>
            <a:ahLst/>
            <a:rect l="l" t="t" r="r" b="b"/>
            <a:pathLst>
              <a:path w="1828800" h="2019300">
                <a:moveTo>
                  <a:pt x="0" y="2019300"/>
                </a:moveTo>
                <a:lnTo>
                  <a:pt x="0" y="1028700"/>
                </a:lnTo>
                <a:cubicBezTo>
                  <a:pt x="0" y="586817"/>
                  <a:pt x="358217" y="228600"/>
                  <a:pt x="800100" y="228600"/>
                </a:cubicBezTo>
                <a:lnTo>
                  <a:pt x="1371600" y="228600"/>
                </a:lnTo>
                <a:lnTo>
                  <a:pt x="1371600" y="0"/>
                </a:lnTo>
                <a:lnTo>
                  <a:pt x="1828800" y="457200"/>
                </a:lnTo>
                <a:lnTo>
                  <a:pt x="1371600" y="914400"/>
                </a:lnTo>
                <a:lnTo>
                  <a:pt x="1371600" y="685800"/>
                </a:lnTo>
                <a:lnTo>
                  <a:pt x="800100" y="685800"/>
                </a:lnTo>
                <a:cubicBezTo>
                  <a:pt x="610722" y="685800"/>
                  <a:pt x="457200" y="839322"/>
                  <a:pt x="457200" y="1028700"/>
                </a:cubicBezTo>
                <a:lnTo>
                  <a:pt x="457200" y="2019300"/>
                </a:lnTo>
                <a:lnTo>
                  <a:pt x="0" y="201930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eta em curva 19"/>
          <p:cNvSpPr/>
          <p:nvPr/>
        </p:nvSpPr>
        <p:spPr>
          <a:xfrm rot="10800000">
            <a:off x="6600600" y="4609800"/>
            <a:ext cx="1933560" cy="1942920"/>
          </a:xfrm>
          <a:custGeom>
            <a:avLst/>
            <a:gdLst/>
            <a:ahLst/>
            <a:rect l="l" t="t" r="r" b="b"/>
            <a:pathLst>
              <a:path w="1933575" h="1943100">
                <a:moveTo>
                  <a:pt x="0" y="1943100"/>
                </a:moveTo>
                <a:lnTo>
                  <a:pt x="0" y="1087636"/>
                </a:lnTo>
                <a:cubicBezTo>
                  <a:pt x="0" y="620437"/>
                  <a:pt x="378740" y="241697"/>
                  <a:pt x="845939" y="241697"/>
                </a:cubicBezTo>
                <a:lnTo>
                  <a:pt x="1450181" y="241697"/>
                </a:lnTo>
                <a:lnTo>
                  <a:pt x="1450181" y="0"/>
                </a:lnTo>
                <a:lnTo>
                  <a:pt x="1933575" y="483394"/>
                </a:lnTo>
                <a:lnTo>
                  <a:pt x="1450181" y="966788"/>
                </a:lnTo>
                <a:lnTo>
                  <a:pt x="1450181" y="725091"/>
                </a:lnTo>
                <a:lnTo>
                  <a:pt x="845939" y="725091"/>
                </a:lnTo>
                <a:cubicBezTo>
                  <a:pt x="645711" y="725091"/>
                  <a:pt x="483394" y="887408"/>
                  <a:pt x="483394" y="1087636"/>
                </a:cubicBezTo>
                <a:lnTo>
                  <a:pt x="483394" y="1943100"/>
                </a:lnTo>
                <a:lnTo>
                  <a:pt x="0" y="194310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eta em curva 20"/>
          <p:cNvSpPr/>
          <p:nvPr/>
        </p:nvSpPr>
        <p:spPr>
          <a:xfrm rot="16200000">
            <a:off x="1485720" y="4228560"/>
            <a:ext cx="1476360" cy="2790720"/>
          </a:xfrm>
          <a:custGeom>
            <a:avLst/>
            <a:gdLst/>
            <a:ahLst/>
            <a:rect l="l" t="t" r="r" b="b"/>
            <a:pathLst>
              <a:path w="1476375" h="2790825">
                <a:moveTo>
                  <a:pt x="0" y="2790825"/>
                </a:moveTo>
                <a:lnTo>
                  <a:pt x="0" y="830461"/>
                </a:lnTo>
                <a:cubicBezTo>
                  <a:pt x="0" y="473733"/>
                  <a:pt x="289186" y="184547"/>
                  <a:pt x="645914" y="184547"/>
                </a:cubicBezTo>
                <a:lnTo>
                  <a:pt x="1107281" y="184547"/>
                </a:lnTo>
                <a:lnTo>
                  <a:pt x="1107281" y="0"/>
                </a:lnTo>
                <a:lnTo>
                  <a:pt x="1476375" y="369094"/>
                </a:lnTo>
                <a:lnTo>
                  <a:pt x="1107281" y="738188"/>
                </a:lnTo>
                <a:lnTo>
                  <a:pt x="1107281" y="553641"/>
                </a:lnTo>
                <a:lnTo>
                  <a:pt x="645914" y="553641"/>
                </a:lnTo>
                <a:cubicBezTo>
                  <a:pt x="493031" y="553641"/>
                  <a:pt x="369094" y="677578"/>
                  <a:pt x="369094" y="830461"/>
                </a:cubicBezTo>
                <a:lnTo>
                  <a:pt x="369094" y="2790825"/>
                </a:lnTo>
                <a:lnTo>
                  <a:pt x="0" y="2790825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valiação do risco de infeção: </a:t>
            </a: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1. Características/Tipo de Microrganismo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95200" y="762120"/>
            <a:ext cx="8391600" cy="5364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Open Sans"/>
              </a:rPr>
              <a:t>– 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Perigosidade dos agentes biológicos Grupos (1-4)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–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Estirpes sensíveis, </a:t>
            </a:r>
            <a:r>
              <a:rPr b="1" i="1" lang="pt-PT" sz="1000" spc="-1" strike="noStrike">
                <a:solidFill>
                  <a:srgbClr val="000000"/>
                </a:solidFill>
                <a:latin typeface="Open Sans"/>
              </a:rPr>
              <a:t>versus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 multirresistentes: MDR/XDR-TB, CRE, VRE, MRSA,ESBL,VISA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-Virulência entre algumas espécies: </a:t>
            </a:r>
            <a:r>
              <a:rPr b="1" i="1" lang="pt-PT" sz="1000" spc="-1" strike="noStrike">
                <a:solidFill>
                  <a:srgbClr val="000000"/>
                </a:solidFill>
                <a:latin typeface="Open Sans"/>
              </a:rPr>
              <a:t>C.difficile-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estirpe hipervirulenta 027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81080" y="1368360"/>
          <a:ext cx="8839080" cy="5435640"/>
        </p:xfrm>
        <a:graphic>
          <a:graphicData uri="http://schemas.openxmlformats.org/drawingml/2006/table">
            <a:tbl>
              <a:tblPr/>
              <a:tblGrid>
                <a:gridCol w="1093680"/>
                <a:gridCol w="4503600"/>
                <a:gridCol w="324180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Grupo de ris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everidade da doença (morbilidade/mortalida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Exemp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Não  é provável  que cause doença nos hum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Pode causar doença nos humanos, incluindo doença profissional; Não é provável  que ocorra transmissão para a comunidade; Há habitualmente profilaxia/tratamento ef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Clostridium diffic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taphylococcus aur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Bordetella pertus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Neisseria meningiCd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Varicella zo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Parotid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Pode causar doença 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evera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 nos humanos, e é um problema sério para os  profissionais; Pode ocorrer transmissão para a comunidade; Há habitualmente profilaxia/tratamento ef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almonella typ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E. coli O157/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M. tubercul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Chlamydia psitt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Hepatites B 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Causa doença 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evera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 nos humanos, é um problema sério para os  profissionais; É expectável a transmissão para a comunidade; Não há habitualmente profilaxia/tratamento ef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Febre Viral Hemorragica: Lassa, Ebola, Marburg, Crimean/Congo, febre hemorrágica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Varí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valiação do risco de infeção: </a:t>
            </a: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2. Severidade das Infeçõ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85760" y="1886040"/>
            <a:ext cx="76010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Colonização – sub-infeção – infeção severa – morte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oente com MRSA, com eczema severo – risco de dispersã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oente com história de tosse com BK positivo na expetoração – constitui  RISCO ELEVADO de transmissão da tuberculose nosocomia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oente com diarreia: VRE, ESBL, CRE,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C difficle e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tros patogéneos entéricos     constitui  RISCO ELEVADO de  contaminação do ambiente e de infeção cruzada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7" name="Seta para a direita 1"/>
          <p:cNvSpPr/>
          <p:nvPr/>
        </p:nvSpPr>
        <p:spPr>
          <a:xfrm>
            <a:off x="4067280" y="4613400"/>
            <a:ext cx="655560" cy="1904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ta para a direita 2"/>
          <p:cNvSpPr/>
          <p:nvPr/>
        </p:nvSpPr>
        <p:spPr>
          <a:xfrm>
            <a:off x="5705640" y="2416320"/>
            <a:ext cx="16344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ta para baixo 3"/>
          <p:cNvSpPr/>
          <p:nvPr/>
        </p:nvSpPr>
        <p:spPr>
          <a:xfrm>
            <a:off x="8339040" y="2948040"/>
            <a:ext cx="217440" cy="2998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valiação do risco de infeção: </a:t>
            </a: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3. Suscetibilidade do Hospedeiro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85760" y="1886040"/>
            <a:ext cx="76010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- IMUNIDADE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xposição prévia a doenças com imunidade duradoura-Ex: Varicela,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xposição prévia  a doenças de imunidade não duradoura- Ex: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Influenza, Noroviru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História de imunização com vacinas de prevenção. Hep. B, MMR, BCG, etc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IMUNOSSUPRESSÃO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ssociada a doença de base ou a quimioterapia/radioterapia/corticoides (altas doses)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1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O </a:t>
            </a:r>
            <a:r>
              <a:rPr b="1" i="1" lang="pt-PT" sz="1600" spc="-1" strike="noStrike">
                <a:solidFill>
                  <a:srgbClr val="000000"/>
                </a:solidFill>
                <a:latin typeface="Open Sans"/>
              </a:rPr>
              <a:t>princípio de Pareto  -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pode ser aplicado ao CI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, para estabelecer prioridades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, com base na estimativa de que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80% dos eventos adversos são geralmente resultado de 20%  das causas.</a:t>
            </a:r>
            <a:br>
              <a:rPr sz="1600"/>
            </a:b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O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Diagrama de </a:t>
            </a:r>
            <a:r>
              <a:rPr b="1" i="1" lang="pt-PT" sz="1600" spc="-1" strike="noStrike">
                <a:solidFill>
                  <a:srgbClr val="000000"/>
                </a:solidFill>
                <a:latin typeface="Open Sans"/>
              </a:rPr>
              <a:t>Pareto  -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é uma técnica simples para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zar potenciais causas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através da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identificação de problemas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663560" y="2395440"/>
            <a:ext cx="68961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552320" y="2143080"/>
            <a:ext cx="73515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Diagrama de Pareto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ode ser gerado por aplicações informáticas simples e fáceis de usar: 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pen Office.org Calc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Microsoft Excel,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tro Software especializado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Links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http://www.wikihow.com/Create-a‐Pareto‐Chart-in-MS-Excel‐2010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–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http://paretochart.org/paretochartemplateexcel/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000000"/>
                </a:solidFill>
                <a:latin typeface="Open Sans"/>
              </a:rPr>
              <a:t>Diagrama de Pareto</a:t>
            </a: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, aplicado ao CI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ângulo 1"/>
          <p:cNvSpPr/>
          <p:nvPr/>
        </p:nvSpPr>
        <p:spPr>
          <a:xfrm>
            <a:off x="942840" y="828720"/>
            <a:ext cx="654372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Open Sans"/>
              </a:rPr>
              <a:t>Obrigada pela Aten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bordagem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76000" y="2343240"/>
            <a:ext cx="721044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sta abordagem pode ser usada para os eventos/riscos provenientes do ambiente de cuidados de saúde, dos materiais/equipamentos bem como, os riscos relativos aos doentes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Fonte: Hubbard D. </a:t>
            </a:r>
            <a:r>
              <a:rPr b="0" i="1" lang="pt-PT" sz="1100" spc="-1" strike="noStrike">
                <a:solidFill>
                  <a:srgbClr val="000000"/>
                </a:solidFill>
                <a:latin typeface="Open Sans"/>
              </a:rPr>
              <a:t>The Failure of Risk Management: Why It's Broken and How to Fix It. </a:t>
            </a: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John Wiley &amp; Sons,2009.</a:t>
            </a: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FUNDAMENTOS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41280" y="2184480"/>
            <a:ext cx="76298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Avaliação de risco: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rocesso que permite determinar o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nível de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gravidade do risco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estimativa formal da probabilidade dos doentes sofrerem lesões/efeitos adversos para a saúde, como consequência de fatores de risco identificados na prestação de cuidados)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estabelecer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prioridades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e intervenção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e os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procedimentos adequad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para a sua gestão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nálise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3320" y="1036800"/>
            <a:ext cx="8528040" cy="5432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ossíveis causas de falhas no desempenho profissional: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odem ocorrer por um “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ato de omissão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”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ex: falha na adesão às práticas de evidência clínica aceites e, podem estar relacionadas com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ha no conhecimento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ha na comunicação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ormação e treino insuficientes/inadequados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ha na avaliação/rotura de </a:t>
            </a:r>
            <a:r>
              <a:rPr b="0" i="1" lang="pt-PT" sz="1600" spc="-1" strike="noStrike">
                <a:solidFill>
                  <a:srgbClr val="000000"/>
                </a:solidFill>
                <a:latin typeface="Open Sans"/>
              </a:rPr>
              <a:t>stock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de materiais/produtos de higiene (ex: para as mãos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odem ocorrer por um “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ato deliberado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”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 que não deveria ser cometido e, podem estar relacionadas com: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-  Falta de aceitação das regras de boa prática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ta de consideração pelos outros - …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é uma questão muito mais complexa e que requer um reforço na gestão das situações…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nálise do Risco de infeção - Falhas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47400" y="2123640"/>
            <a:ext cx="728676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correm quando não foi compreendida a verdadeira razão do problema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ão adotadas soluções incorretas, para problemas reai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Muitas vezes relacionadas com falha de comunicação ou interpretação errada da informaçã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olocar no terreno um plano de redução de risco, baseado apenas nas evidências -  em vez de baseado, nos problemas reais identificad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581120" y="1143000"/>
            <a:ext cx="7096320" cy="4610160"/>
          </a:xfrm>
          <a:prstGeom prst="rect">
            <a:avLst/>
          </a:prstGeom>
          <a:ln w="0">
            <a:noFill/>
          </a:ln>
        </p:spPr>
      </p:pic>
      <p:sp>
        <p:nvSpPr>
          <p:cNvPr id="145" name="Rectângulo 2"/>
          <p:cNvSpPr/>
          <p:nvPr/>
        </p:nvSpPr>
        <p:spPr>
          <a:xfrm>
            <a:off x="2057400" y="1209600"/>
            <a:ext cx="203832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Perigo:  Infe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ângulo 3"/>
          <p:cNvSpPr/>
          <p:nvPr/>
        </p:nvSpPr>
        <p:spPr>
          <a:xfrm>
            <a:off x="5981760" y="1247760"/>
            <a:ext cx="235260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Falha ou ausência de defesas, a diversos níve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ângulo 4"/>
          <p:cNvSpPr/>
          <p:nvPr/>
        </p:nvSpPr>
        <p:spPr>
          <a:xfrm>
            <a:off x="6267600" y="4952880"/>
            <a:ext cx="233352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Erro ou omissão no cumprimento das norm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ângulo 5"/>
          <p:cNvSpPr/>
          <p:nvPr/>
        </p:nvSpPr>
        <p:spPr>
          <a:xfrm>
            <a:off x="1552680" y="5029200"/>
            <a:ext cx="236196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Falhas ativas (pessoas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e condições existentes (sistem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ângulo arredondado 6"/>
          <p:cNvSpPr/>
          <p:nvPr/>
        </p:nvSpPr>
        <p:spPr>
          <a:xfrm>
            <a:off x="1562040" y="2133720"/>
            <a:ext cx="1657440" cy="75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Cultura organizac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não privilegia o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ângulo arredondado 7"/>
          <p:cNvSpPr/>
          <p:nvPr/>
        </p:nvSpPr>
        <p:spPr>
          <a:xfrm>
            <a:off x="1866960" y="3648240"/>
            <a:ext cx="270504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Formação/treino insuficiente, dirigido para as situações pr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ângulo arredondado 8"/>
          <p:cNvSpPr/>
          <p:nvPr/>
        </p:nvSpPr>
        <p:spPr>
          <a:xfrm>
            <a:off x="4305240" y="4705200"/>
            <a:ext cx="14763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Open Sans"/>
              </a:rPr>
              <a:t>Falha na motiva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ângulo arredondado 9"/>
          <p:cNvSpPr/>
          <p:nvPr/>
        </p:nvSpPr>
        <p:spPr>
          <a:xfrm>
            <a:off x="4905360" y="1866960"/>
            <a:ext cx="152388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Organiz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ângulo arredondado 10"/>
          <p:cNvSpPr/>
          <p:nvPr/>
        </p:nvSpPr>
        <p:spPr>
          <a:xfrm>
            <a:off x="5667480" y="2238480"/>
            <a:ext cx="152388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ângulo arredondado 11"/>
          <p:cNvSpPr/>
          <p:nvPr/>
        </p:nvSpPr>
        <p:spPr>
          <a:xfrm>
            <a:off x="6391440" y="2924280"/>
            <a:ext cx="1333440" cy="21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Da Equi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ângulo arredondado 12"/>
          <p:cNvSpPr/>
          <p:nvPr/>
        </p:nvSpPr>
        <p:spPr>
          <a:xfrm>
            <a:off x="7115040" y="3591000"/>
            <a:ext cx="1447920" cy="19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ângulo arredondado 13"/>
          <p:cNvSpPr/>
          <p:nvPr/>
        </p:nvSpPr>
        <p:spPr>
          <a:xfrm>
            <a:off x="2647800" y="4133880"/>
            <a:ext cx="241956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Falha na liderança e de equipas que valorizem o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ângulo 14"/>
          <p:cNvSpPr/>
          <p:nvPr/>
        </p:nvSpPr>
        <p:spPr>
          <a:xfrm>
            <a:off x="1476360" y="239760"/>
            <a:ext cx="718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Causas: ‘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Modelo queijo suíço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” dos eventos adversos associados à prevenção e controlo da infe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ângulo arredondado 15"/>
          <p:cNvSpPr/>
          <p:nvPr/>
        </p:nvSpPr>
        <p:spPr>
          <a:xfrm>
            <a:off x="1504800" y="3181320"/>
            <a:ext cx="24670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Falha nos circuitos e processos de prevenção da infe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ângulo 16"/>
          <p:cNvSpPr/>
          <p:nvPr/>
        </p:nvSpPr>
        <p:spPr>
          <a:xfrm>
            <a:off x="371520" y="6076800"/>
            <a:ext cx="846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Fonte: Storr J, Wigglesworth N &amp; Kilpatrick C. Integrating human factors with infecton Prevention and control. The Health Foundation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6:07:29Z</dcterms:created>
  <dc:creator>Alexandra Figueiredo</dc:creator>
  <dc:description/>
  <dc:language>en-US</dc:language>
  <cp:lastModifiedBy>Goreti</cp:lastModifiedBy>
  <dcterms:modified xsi:type="dcterms:W3CDTF">2015-05-03T16:02:25Z</dcterms:modified>
  <cp:revision>257</cp:revision>
  <dc:subject/>
  <dc:title>Diapositivo 1</dc:title>
</cp:coreProperties>
</file>